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FC-8BAB-474F-ADC0-0427235B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502-61F2-46D6-9AD7-0D640CF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FBA-7F59-49C9-A814-A9FD5BE4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C7D-985C-4236-8E6F-27A27AF9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4D0-E9E5-4558-ACCC-69A3C89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9F9-7117-48F8-BE00-ACF1AF4D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BAC-CFF5-44CF-8C54-58A878D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F33-27F7-4B1F-893E-BEC3174E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766-D1C5-4B66-ADAE-4686A1D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87D-92BB-465C-9590-BD3E94C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1AF-54B4-4305-A4D0-F8D00BE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A1D-4CE3-49BD-AD43-F6608D2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CBCF-8690-4252-8166-D7B40656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Prospective on forest scenarii </a:t>
            </a:r>
            <a:br>
              <a:rPr sz="4400"/>
            </a:b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for Aquitaine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an-Michel Car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RA Pierr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9, route d’Arcac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– 33612 Ce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385-58A3-4F21-B27A-51DF4E2C39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Historical regional perspectiv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ability of forest area in the past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gional multifunctionnality and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patial distribution of main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-evolution forest &lt; &gt; wood industry: paradigms (resin &gt; timber &gt; EWP?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vironmental changes (ex: ground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ynamic forestry and changes in produc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559-4CEC-44C5-AD80-C3A2C9C5C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from today forest scenarii</a:t>
            </a:r>
            <a:r>
              <a:rPr b="1" lang="fr-FR" sz="4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808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« resin » regi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semi-intensive sawing regi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intensive regim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60 yrs - sowing - 110 cm - 220 stems/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&lt; 50 yrs - sowing or planting - 95 cm - 400 stems/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Times New Roman"/>
              </a:rPr>
              <a:t>40 yrs - planting - 85 cm -  400 stems/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562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</a:rPr>
              <a:t>maximal production of good quality sawing timber within the shortest time compatible with ecological constraints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981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962520" y="342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5029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8381880" cy="21337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B5B-E403-424B-8303-72056023C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.....future clim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increase in GG concentrations and changes in </a:t>
            </a:r>
            <a:r>
              <a:rPr b="0" lang="fr-FR" sz="3200" spc="-1" strike="noStrike" baseline="30000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 rainfall distribution, temperatures... regional climatic scenari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more extreme climatic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changes in atmospheric depositions and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impacts on living communities and biodivers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F4A-93A4-4EDB-B693-784A53D74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... future society need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urbanisation and increased demand for ecological services /non wood produ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market demand for wood based produ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ecocertification procedures and increased role of wood as a strategic res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share of information and informed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EC2-546B-4EDC-BA9C-A508E9776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2209680"/>
            <a:ext cx="3352680" cy="342900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1523880"/>
            <a:ext cx="3429000" cy="4910400"/>
          </a:xfrm>
          <a:prstGeom prst="rect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GION/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orest-region-industry scenar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cc"/>
                </a:solidFill>
                <a:latin typeface="Times New Roman"/>
              </a:rPr>
              <a:t>spatia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cc"/>
                </a:solidFill>
                <a:latin typeface="Times New Roman"/>
              </a:rPr>
              <a:t>forest a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cc"/>
                </a:solidFill>
                <a:latin typeface="Times New Roman"/>
              </a:rPr>
              <a:t>spec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ffcc"/>
                </a:solidFill>
                <a:latin typeface="Times New Roman"/>
              </a:rPr>
              <a:t>forest scena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INTER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600200"/>
            <a:ext cx="2895840" cy="4724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447920"/>
            <a:ext cx="2743200" cy="4876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....future global contex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600200"/>
            <a:ext cx="19051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C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bio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forest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tection of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global change and carbon seque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1752480"/>
            <a:ext cx="220968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sts and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egional develop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ducts and industry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00200"/>
            <a:ext cx="228600" cy="4800600"/>
          </a:xfrm>
          <a:prstGeom prst="downArrow">
            <a:avLst>
              <a:gd name="adj1" fmla="val 50000"/>
              <a:gd name="adj2" fmla="val 52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1600200"/>
            <a:ext cx="380880" cy="4876920"/>
          </a:xfrm>
          <a:prstGeom prst="downArrow">
            <a:avLst>
              <a:gd name="adj1" fmla="val 50000"/>
              <a:gd name="adj2" fmla="val 3201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4CA-5F9E-4B58-A6C7-E33532739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to tomorrow forest scenari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coupled model/wood function dom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specialised forestry areas </a:t>
            </a:r>
            <a:r>
              <a:rPr b="0" i="1" lang="fr-FR" sz="2400" spc="-1" strike="noStrike">
                <a:solidFill>
                  <a:srgbClr val="800000"/>
                </a:solidFill>
                <a:latin typeface="Times New Roman"/>
              </a:rPr>
              <a:t>(« charts for forested territories »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increase in planted forest ar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alternative species (</a:t>
            </a:r>
            <a:r>
              <a:rPr b="0" i="1" lang="fr-FR" sz="2400" spc="-1" strike="noStrike">
                <a:solidFill>
                  <a:srgbClr val="800000"/>
                </a:solidFill>
                <a:latin typeface="Times New Roman"/>
              </a:rPr>
              <a:t>Pinus taeda, eucalypts</a:t>
            </a: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flexible forestry scenarii for wood production </a:t>
            </a:r>
            <a:r>
              <a:rPr b="0" i="1" lang="fr-FR" sz="2400" spc="-1" strike="noStrike">
                <a:solidFill>
                  <a:srgbClr val="800000"/>
                </a:solidFill>
                <a:latin typeface="Times New Roman"/>
              </a:rPr>
              <a:t>(biomass production to quality ti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new silvicultures for recreation or protection </a:t>
            </a:r>
            <a:r>
              <a:rPr b="0" i="1" lang="fr-FR" sz="2400" spc="-1" strike="noStrike">
                <a:solidFill>
                  <a:srgbClr val="800000"/>
                </a:solidFill>
                <a:latin typeface="Times New Roman"/>
              </a:rPr>
              <a:t>(CCF,carbon sequestration, biodiversity maintenance)</a:t>
            </a:r>
            <a:r>
              <a:rPr b="0" lang="fr-FR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B1A-379A-4312-B7F8-FA3AC66B8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9933"/>
                </a:solidFill>
                <a:latin typeface="Times New Roman"/>
              </a:rPr>
              <a:t>Scénarii sustainability</a:t>
            </a:r>
            <a:r>
              <a:rPr b="0" lang="fr-FR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52480" y="1371600"/>
          <a:ext cx="60976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60976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914400" y="1676520"/>
            <a:ext cx="7238880" cy="4419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914400" y="1676520"/>
            <a:ext cx="731520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609588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800000"/>
                </a:solidFill>
                <a:latin typeface="Times New Roman"/>
              </a:rPr>
              <a:t>100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632448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176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14400" y="2666520"/>
            <a:ext cx="7238880" cy="3429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800000"/>
                </a:solidFill>
                <a:latin typeface="Times New Roman"/>
              </a:rPr>
              <a:t>Cumulated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5909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8" idx="0"/>
            <a:endCxn id="78" idx="0"/>
          </p:cNvCxnSpPr>
          <p:nvPr/>
        </p:nvCxnSpPr>
        <p:spPr>
          <a:xfrm flipH="1" rot="16200000">
            <a:off x="914040" y="6114600"/>
            <a:ext cx="2520" cy="2160"/>
          </a:xfrm>
          <a:prstGeom prst="curvedConnector5">
            <a:avLst>
              <a:gd name="adj1" fmla="val 13200000"/>
              <a:gd name="adj2" fmla="val 40000"/>
              <a:gd name="adj3" fmla="val 13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930240" y="3048120"/>
            <a:ext cx="5013360" cy="3063600"/>
          </a:xfrm>
          <a:custGeom>
            <a:avLst/>
            <a:gdLst/>
            <a:ahLst/>
            <a:rect l="l" t="t" r="r" b="b"/>
            <a:pathLst>
              <a:path w="2623" h="1620">
                <a:moveTo>
                  <a:pt x="0" y="1620"/>
                </a:moveTo>
                <a:cubicBezTo>
                  <a:pt x="42" y="1537"/>
                  <a:pt x="80" y="1494"/>
                  <a:pt x="140" y="1425"/>
                </a:cubicBezTo>
                <a:cubicBezTo>
                  <a:pt x="182" y="1377"/>
                  <a:pt x="217" y="1312"/>
                  <a:pt x="251" y="1258"/>
                </a:cubicBezTo>
                <a:cubicBezTo>
                  <a:pt x="309" y="1167"/>
                  <a:pt x="329" y="1048"/>
                  <a:pt x="377" y="951"/>
                </a:cubicBezTo>
                <a:cubicBezTo>
                  <a:pt x="385" y="936"/>
                  <a:pt x="398" y="924"/>
                  <a:pt x="405" y="909"/>
                </a:cubicBezTo>
                <a:cubicBezTo>
                  <a:pt x="445" y="818"/>
                  <a:pt x="416" y="842"/>
                  <a:pt x="460" y="769"/>
                </a:cubicBezTo>
                <a:cubicBezTo>
                  <a:pt x="496" y="709"/>
                  <a:pt x="561" y="626"/>
                  <a:pt x="600" y="574"/>
                </a:cubicBezTo>
                <a:cubicBezTo>
                  <a:pt x="634" y="529"/>
                  <a:pt x="780" y="453"/>
                  <a:pt x="837" y="421"/>
                </a:cubicBezTo>
                <a:cubicBezTo>
                  <a:pt x="1096" y="276"/>
                  <a:pt x="1449" y="169"/>
                  <a:pt x="1744" y="142"/>
                </a:cubicBezTo>
                <a:cubicBezTo>
                  <a:pt x="1838" y="111"/>
                  <a:pt x="1904" y="113"/>
                  <a:pt x="2009" y="100"/>
                </a:cubicBezTo>
                <a:cubicBezTo>
                  <a:pt x="2065" y="93"/>
                  <a:pt x="2177" y="72"/>
                  <a:pt x="2177" y="72"/>
                </a:cubicBezTo>
                <a:cubicBezTo>
                  <a:pt x="2297" y="31"/>
                  <a:pt x="2411" y="27"/>
                  <a:pt x="2539" y="16"/>
                </a:cubicBezTo>
                <a:cubicBezTo>
                  <a:pt x="2604" y="0"/>
                  <a:pt x="2576" y="2"/>
                  <a:pt x="2623" y="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124080"/>
            <a:ext cx="0" cy="297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362320"/>
            <a:ext cx="5562720" cy="3733560"/>
          </a:xfrm>
          <a:custGeom>
            <a:avLst/>
            <a:gdLst/>
            <a:ahLst/>
            <a:rect l="l" t="t" r="r" b="b"/>
            <a:pathLst>
              <a:path w="2623" h="1620">
                <a:moveTo>
                  <a:pt x="0" y="1620"/>
                </a:moveTo>
                <a:cubicBezTo>
                  <a:pt x="42" y="1537"/>
                  <a:pt x="80" y="1494"/>
                  <a:pt x="140" y="1425"/>
                </a:cubicBezTo>
                <a:cubicBezTo>
                  <a:pt x="182" y="1377"/>
                  <a:pt x="217" y="1312"/>
                  <a:pt x="251" y="1258"/>
                </a:cubicBezTo>
                <a:cubicBezTo>
                  <a:pt x="309" y="1167"/>
                  <a:pt x="329" y="1048"/>
                  <a:pt x="377" y="951"/>
                </a:cubicBezTo>
                <a:cubicBezTo>
                  <a:pt x="385" y="936"/>
                  <a:pt x="398" y="924"/>
                  <a:pt x="405" y="909"/>
                </a:cubicBezTo>
                <a:cubicBezTo>
                  <a:pt x="445" y="818"/>
                  <a:pt x="416" y="842"/>
                  <a:pt x="460" y="769"/>
                </a:cubicBezTo>
                <a:cubicBezTo>
                  <a:pt x="496" y="709"/>
                  <a:pt x="561" y="626"/>
                  <a:pt x="600" y="574"/>
                </a:cubicBezTo>
                <a:cubicBezTo>
                  <a:pt x="634" y="529"/>
                  <a:pt x="780" y="453"/>
                  <a:pt x="837" y="421"/>
                </a:cubicBezTo>
                <a:cubicBezTo>
                  <a:pt x="1096" y="276"/>
                  <a:pt x="1449" y="169"/>
                  <a:pt x="1744" y="142"/>
                </a:cubicBezTo>
                <a:cubicBezTo>
                  <a:pt x="1838" y="111"/>
                  <a:pt x="1904" y="113"/>
                  <a:pt x="2009" y="100"/>
                </a:cubicBezTo>
                <a:cubicBezTo>
                  <a:pt x="2065" y="93"/>
                  <a:pt x="2177" y="72"/>
                  <a:pt x="2177" y="72"/>
                </a:cubicBezTo>
                <a:cubicBezTo>
                  <a:pt x="2297" y="31"/>
                  <a:pt x="2411" y="27"/>
                  <a:pt x="2539" y="16"/>
                </a:cubicBezTo>
                <a:cubicBezTo>
                  <a:pt x="2604" y="0"/>
                  <a:pt x="2576" y="2"/>
                  <a:pt x="2623" y="2"/>
                </a:cubicBezTo>
              </a:path>
            </a:pathLst>
          </a:custGeom>
          <a:noFill/>
          <a:ln w="442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5638680"/>
            <a:ext cx="153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Times New Roman"/>
              </a:rPr>
              <a:t>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Times New Roman"/>
              </a:rPr>
              <a:t>écol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2971800"/>
            <a:ext cx="228600" cy="457200"/>
          </a:xfrm>
          <a:prstGeom prst="donut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7920" y="563868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écono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2743200"/>
            <a:ext cx="0" cy="3429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557-A2D2-4FA1-AAA4-4052B5B624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8:09:49Z</dcterms:created>
  <dc:creator>carnus</dc:creator>
  <dc:description/>
  <dc:language>en-US</dc:language>
  <cp:lastModifiedBy>Christophe Orazio</cp:lastModifiedBy>
  <dcterms:modified xsi:type="dcterms:W3CDTF">2003-02-20T16:44:04Z</dcterms:modified>
  <cp:revision>5</cp:revision>
  <dc:subject/>
  <dc:title>Prospective on forest scenarii  for Aquitaine </dc:title>
</cp:coreProperties>
</file>