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37E-6D20-423C-9EFD-0D9E0BA1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65B-B3ED-481C-8790-C19CF979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17B-D18D-4142-ABD1-D95120C9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B52-42CF-401B-99B7-57F8E167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B53-4420-422B-8A51-203B40FC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486-9129-4988-A8DC-6FDAA734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181-EF99-41CF-93B2-969174FE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2C0-33E1-4B8D-AC2E-F380DC72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0A1-145A-43EC-B007-0D57815D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428-E10A-44EA-ACDF-B42FD0E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93B-D876-4FBC-B367-41DD5066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737-B0D6-4EC5-91E7-DEA1F5BB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444E-DBD6-4B86-9AC5-36081831D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st management and modellin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0440" y="137124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s gestão do minifún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s gestão ao nível associa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mento dos parâmetros de entrada dos modelos, incl melhoramento gené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stão do encabeçamento no mon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s de carbono e relação água-carbo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o definir produtividade da estação em povoamentos replantados ou reconverti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forçar a interface entre silvicultura e qualidade do produ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ficação de perdas de produção devido a pragas e doenças e ausência de melhor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41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s para espécies e sistemas portugueses “não tradicionai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s adequados à realidade (pov puros-mistos, regulares-irregulare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ntários finai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 grandes objectivos da I&amp;D deviam ser responder e prever os problemas dos utilizadores/ socie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pel das várias instituições (e.g. autoridade florestal nacional) neste te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mportância de garantir a credibilidade científica e técnica da I&amp;D, especialmente os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st operations, 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 &amp; transpor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440" y="13716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o gerir povoamentos sem gest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mpactos ambientais das operações flores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89548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finição de operações ambientalmente correctas: controlo da erosão, mobilização mínima, controlo de vege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quipamentos e máquinas adequadas às novas preocupações ambien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abilização dos custos de carbono associados ao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e impr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40" y="13716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3 confirmação das regiões de proveniência para o sobreiro delimitadas sobre critérios edafo-climáticos, por resultados de ensaios de proveniência apropr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3  estudo de variabilidade da Azinhe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429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hnologie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440" y="533412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/3 </a:t>
            </a: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dentificação de marcadores ligados às características de interesse para selecção molecular assistida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440" y="41148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  </a:t>
            </a: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udos de variabilidade genética usando marcadores molec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otic risk manage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1371600"/>
            <a:ext cx="830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valiação integrada do valor total dos produtos e serviços flores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o remunerar os serviços ambien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dentificação de produtos com interesse: quercíneas, castanheiro, pinhão e cortiça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st products and service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040" y="51055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stão para prevenção de incêndio (cartas de risco de incên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diversity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440" y="13716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finição de índices de diversidade com recolha de dados simples, especialmente diversidade da fa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89548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stão das galerias rip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ntagens e desvantagens da compartimentação e descontinuidade da vege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mpacto do controlo de invasoras, em termos de biodivers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s da I&amp;D: Divulg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040" y="114300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tivação e tomada de decisão do propriet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tivação e interesses da sociedade em relação à flor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o-economic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1800" y="3733920"/>
            <a:ext cx="8420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 guias de boas práticas, manuais campo, site com novidades, formação profissional, transferência de tecnolog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senvolvimento de SIGs e tecnologia de informação de fácil uso pelo produtor/ proprietário e socie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st policy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40" y="1371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i="1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poio técnico às associ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362320"/>
            <a:ext cx="83059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nutenção da capacidade (i.e. </a:t>
            </a:r>
            <a:r>
              <a:rPr b="0" i="1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ff</a:t>
            </a: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técnica das associações na era “pós-subsídi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valiação dos programas públicos de apoio ao sector (eficácia e eficiênc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valiação da adequação dos instrumentos de política territorial (eficácia e eficiênc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Cycle Assess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144792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 falta de parâmetros não tradicionais nos inventários: biodiversidade, qualidade do solo e da água, ecossistemas</a:t>
            </a:r>
            <a:r>
              <a:rPr b="0" i="1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st inventory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040" y="38862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040" y="4038480"/>
            <a:ext cx="830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/3 consideração da forma como se pode incluir, na gestão florestal, a prevenção/ redução de impactes na indústria e.g uso de lamas e cinza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 /2 disponibilização de informação “sensív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ificação/ GF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040" y="129528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 desenvolvimento de instrumentos de participação da </a:t>
            </a:r>
            <a:r>
              <a:rPr b="0" i="1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keholders</a:t>
            </a: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a tomada de decisão, desde a definição da estratégia e objectivos da I&amp;D, até à avaliação do seu su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ção de </a:t>
            </a:r>
            <a:r>
              <a:rPr b="0" i="1" lang="pt-P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s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I&amp;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040" y="4038480"/>
            <a:ext cx="84200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 </a:t>
            </a: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rketing da certificação e da GFS, e em particular dos indicadores de G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tilização da informação gerada pelos indicadores na tomada de deci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2:44:30Z</dcterms:created>
  <dc:creator>Celbi, SA</dc:creator>
  <dc:description/>
  <dc:language>en-US</dc:language>
  <cp:lastModifiedBy>Celbi, SA</cp:lastModifiedBy>
  <dcterms:modified xsi:type="dcterms:W3CDTF">2003-04-08T16:13:16Z</dcterms:modified>
  <cp:revision>7</cp:revision>
  <dc:subject/>
  <dc:title>Forest management and modelling </dc:title>
</cp:coreProperties>
</file>