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B616-4EB3-4A6F-8A67-E3F6638B4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3EC2-8907-472C-9911-54125DAEA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2033-66DC-482F-AB28-2E73CDB09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B560-0615-47CB-856A-332FC0CE8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E28A-86F7-4D2A-ACA8-EB0D16A44F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C0F3-3155-4074-8B4F-DFD67069B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2913-254F-4A1F-853A-7CB33D8F1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0ABB-C056-4925-8927-0B69F679B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BEF3-F4E1-46B1-BAAE-404779559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211A-D6A1-41A7-A24A-2429E264C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6C4B-8B8C-4524-ABC5-AA7DD328F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4a1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3EBD-E32C-4238-94CD-5531E1697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7480" y="85680"/>
            <a:ext cx="8967600" cy="793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6360" y="6477120"/>
            <a:ext cx="381240" cy="3045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6000" y="6476760"/>
            <a:ext cx="42084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37F7-0340-4B8F-933D-A5C6D1635A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74600" y="123840"/>
            <a:ext cx="881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bidos, 08 de abril de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47600" y="1184400"/>
            <a:ext cx="8826480" cy="862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1. Modelos de gestão sustentável (médio e longo praz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1. Models for sustainable forest management (medium and long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44360" y="2651040"/>
            <a:ext cx="8826480" cy="1472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2. Melhorar os modelos de silvicultura das espécies florestais (curto, médio e longo pr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2. Improvements of models for simulation of stand dynamics according to forest management (short, medium and long term)</a:t>
            </a:r>
            <a:r>
              <a:rPr b="1" lang="en-GB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4727520"/>
            <a:ext cx="8813520" cy="1472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3. Melhoramento genético em geral, com ênfase no sobreiro e pinheiro bravo (médio e longo pr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3. Tree breeding in general, with emphasis for cork oak and maritime pine (medium and long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8507-FFFE-45F3-A6EA-AB256805CC7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4600" y="123840"/>
            <a:ext cx="881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bidos, 08 de abril de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00" y="1184400"/>
            <a:ext cx="8826480" cy="1472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4. Silvicultura, diversidade e qualidade dos produtos (curto, médio e longo pr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4. Silviculture, diversity and quality of wood and non-wood products (short, medium and long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360" y="3398760"/>
            <a:ext cx="8826480" cy="862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5. Optimização do valor das matérias primas florestais (curto pr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5. Improvement of the quality of raw materials (short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9400" y="5005440"/>
            <a:ext cx="8813520" cy="1472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6. Valorização dos produtos e serviços associados à floresta (curto praz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6. Enhanced use of wood and non-wood products and services (short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E13F-3568-4376-A392-70CC99102FE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4600" y="123840"/>
            <a:ext cx="881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bidos, 08 de abril de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00" y="1184400"/>
            <a:ext cx="8826480" cy="1167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7. Revitalização (uso múltiplo) de povoamentos de montado de azinho (curto pr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7. Rehabilitation (multiple use) of holm oak stands (short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360" y="3108240"/>
            <a:ext cx="8826480" cy="862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8. Métodos para prever os riscos bióticos e abióticos (médio pr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8. Methods for biotic and abiotic risks assessment (medium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9400" y="4727520"/>
            <a:ext cx="8813520" cy="1472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9. Modelação de habitats para avaliação dos indicadores da biodiversidade (médio pr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9. Habitat modeling towards the evaluation of biodiversity indicators (medium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02B6-555B-4AE8-B2F5-17683636F8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4600" y="123840"/>
            <a:ext cx="881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bidos, 08 de abril de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7600" y="1184400"/>
            <a:ext cx="8826480" cy="1777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10. Modelos para a recuperação/regeneração/reconversão de povoamentos (curto, médio e longo pr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10. Models for the recovery/regeneration/conversion of existing stands as well as the establishment of new plantations (emphasis on cork and holm oak) (short, medium and long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360" y="3260880"/>
            <a:ext cx="8826480" cy="1167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11. Avaliação do impacto das políticas nas opções de gestão florestal (curto praz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11. Assessment of policy measures on forest management (short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9400" y="4727520"/>
            <a:ext cx="8813520" cy="1472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12. Métodos expeditos de inventário para efeitos de gestão (curto praz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12. Simple forest inventory methodologies for management (cost efficient) (short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8E9A-183F-4299-BAE6-90D98A9396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4600" y="123840"/>
            <a:ext cx="881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bidos, 08 de abril de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7600" y="2811600"/>
            <a:ext cx="88264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Coordenação/financiamento da investigação das entidades do SCTN com estabelecimento duma estratégia de longo prazo baseada em unidades de experimentação e demonstração (curto pr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Coordination/funding of research national institutions with the establishment of a long term strategy based on experimental and demonstrative field sites (short te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3920" y="1400040"/>
            <a:ext cx="1396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Desaf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6600"/>
                </a:solidFill>
                <a:latin typeface="Arial"/>
                <a:ea typeface="Times New Roman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2D9E-3C35-401A-AC43-229A38B9B18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9T17:23:05Z</dcterms:created>
  <dc:creator>Nuno Vaz</dc:creator>
  <dc:description/>
  <dc:language>en-US</dc:language>
  <cp:lastModifiedBy>Centro Pinus</cp:lastModifiedBy>
  <cp:lastPrinted>2002-03-11T09:30:54Z</cp:lastPrinted>
  <dcterms:modified xsi:type="dcterms:W3CDTF">2003-04-08T13:53:30Z</dcterms:modified>
  <cp:revision>585</cp:revision>
  <dc:subject/>
  <dc:title>No Slide Title</dc:title>
</cp:coreProperties>
</file>