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749-0678-4ED8-A7AD-A372B68A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2D0-28E0-4866-B5A7-A4A9C5A5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5F9-1367-4981-BDC3-5B894F1D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525-F757-479C-91F4-37C235C0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EE5D-FA87-4B6E-8DCB-F6F797DF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06FC-9EC7-4B69-86EE-D6C78049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3284-59AE-408A-AC90-B2BC9E61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5E55-A6FF-4C34-A5D1-D274DFF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96C8-6DB1-4BF3-9324-1086149E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A2D9-EB6F-4C78-9D4A-D3025859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427A-92EE-4751-99E7-1FB7B0C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32C-54AB-4C6F-B2EE-675F872C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2984-DD16-4AE4-AF43-30C4802B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CB85-F36D-42F3-A30F-4F47A6D8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99B1-3724-4756-AA0B-82ED442E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BD9F-850D-4695-9C31-6BA0ED45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4D70-D5E2-4A7A-B148-2592278D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723-070F-43C3-92B0-19FF86AE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006-C1FD-47CA-AA39-73BB7113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FA0-77E4-47D3-B47E-93867586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0B9-57CA-4561-A2CD-A891CFCA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711-45C8-4B06-9296-B7839735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060-7709-45C6-B0BA-4919BE6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7C8-A357-4C95-A81D-A049DB42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1681-829E-473B-B5FF-EB1569AB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7E3-88E8-40FE-A581-27D2472EC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Conclusões </a:t>
            </a:r>
            <a:br>
              <a:rPr sz="4400"/>
            </a:b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Grupo 4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Melhoramento Floresta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aracterizar o material actualmente uti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iciar (algumas espécies) a caracterização da variabilidade dispo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hecimento dos processos fisiológicos e suas or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studar as causas de alteração do comportamento das espécies e relação com alterações cli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Madeira e Outros Produto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trodução de novos produtos e novas “procur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dições de silvicultura que determinam a qualidade dos prod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riação de desenvolvimento de novos transform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Riscos Bióticos e Abiótico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asos prioritários: montados e pinheiro-bra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tilização de fogo contro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aracterização dos efeitos reais sobre o comportamento do fogo de aceiros e estruturas de comparti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tudo da relação entre fogos e ordenamento do terri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Biodiversida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servação genética / reservas gen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lação entre aspectos de produção e gestão de risco com manutenção de níveis adequados de diversidade 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560880"/>
            <a:ext cx="746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3300"/>
                </a:solidFill>
                <a:latin typeface="Arial Black"/>
              </a:rPr>
              <a:t>Aspectos Socio-Económicos e Política Florestal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finição de tipos de políticas de incentivos e desince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líticas de edu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valiação e interdependência de políticas de outros s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Inventário Floresta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ecessidade de alargamento a outras 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strumentos intercalares de inventário para actualizações parciais (satélite ou outros mei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3300"/>
                </a:solidFill>
                <a:latin typeface="Arial Black"/>
              </a:rPr>
              <a:t>Pontos Prévios</a:t>
            </a:r>
            <a:br>
              <a:rPr sz="3600"/>
            </a:b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Avaliar Estado da Ar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É necessário avaliar, perceber e divulgar o que já está f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finir prioridades pressupõe a existência um modelo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esforço deve centrar-se em questões mobilizadoras e unificad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itérios e Indicadores de Gestão Florestal Susten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3300"/>
                </a:solidFill>
                <a:latin typeface="Arial Black"/>
              </a:rPr>
              <a:t>Pontos Prévios</a:t>
            </a:r>
            <a:br>
              <a:rPr sz="3600"/>
            </a:b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Trabalho Conjunt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iste um sentido de urgência / abandono que condiciona a atitude da p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ferta” de investigação é limitada e a “procura” muito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diálogo entre investigadores e utilizadores deve ser regular e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3300"/>
                </a:solidFill>
                <a:latin typeface="Arial Black"/>
              </a:rPr>
              <a:t>Pontos Prévios</a:t>
            </a:r>
            <a:br>
              <a:rPr sz="3600"/>
            </a:b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Prazos de Investigaç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uitos problemas florestais abrangem prazos de investigação lo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necessário desenvolver uma política de financiamento de investigação que considere projectos de “longo cur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3300"/>
                </a:solidFill>
                <a:latin typeface="Arial Black"/>
              </a:rPr>
              <a:t>Novas Áreas</a:t>
            </a:r>
            <a:br>
              <a:rPr sz="3600"/>
            </a:b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Comunicaç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ecessidade de fazer encontrar investigação e utilizadores f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moção do reconhecimento do sector pela socie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tudar as formas para utilizar as Associações como veículos de transmissão de conhecimento e informação a pequenos propriet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500040"/>
            <a:ext cx="7467480" cy="12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3300"/>
                </a:solidFill>
                <a:latin typeface="Arial Black"/>
              </a:rPr>
              <a:t>Novas Áreas</a:t>
            </a:r>
            <a:br>
              <a:rPr sz="4000"/>
            </a:br>
            <a:r>
              <a:rPr b="0" lang="pt-PT" sz="4000" spc="-1" strike="noStrike">
                <a:solidFill>
                  <a:srgbClr val="003300"/>
                </a:solidFill>
                <a:latin typeface="Arial Black"/>
              </a:rPr>
              <a:t>Organização/Mobilização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Gestão agrup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licação de códigos de boas práticas florest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ptimização de operações florest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tuação de associações florest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uturo da pequena proprie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3300"/>
                </a:solidFill>
                <a:latin typeface="Arial Black"/>
              </a:rPr>
              <a:t>Novas Áreas</a:t>
            </a:r>
            <a:br>
              <a:rPr sz="3600"/>
            </a:b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Certificaç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Gestão florestal sustent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Higiene e segu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réditos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Gestão Florestal e Modelaç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ipificação da Ge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envolvimento de modelos de gestão adaptados a cada espécie/ sistema flor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gação entre modelação 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finir: Modelos para quê? Para qu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iar modelos simples para espécies não princip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ersificar os principais modelos para outro tipo de 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ersificar os principais modelos para outro tipo de inputs (material melhorado, fertilização, tipos de mobiliz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duzir a incerteza dos modelo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Logística e Operações Floresta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senvolvimento de equipamentos mais específicos para a realidade portuguesa: cortiça e p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studo das condições de condução de povoamentos optimizada para a melhoria da exploração florestal e qualidade dos prod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mpacto de diferentes técnicas de preparação  e mobilização de s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igação com os problemas da pequena proprie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3:00:15Z</dcterms:created>
  <dc:creator>TData</dc:creator>
  <dc:description/>
  <dc:language>en-US</dc:language>
  <cp:lastModifiedBy>Antoine Colin</cp:lastModifiedBy>
  <dcterms:modified xsi:type="dcterms:W3CDTF">2003-06-20T07:06:03Z</dcterms:modified>
  <cp:revision>7</cp:revision>
  <dc:subject/>
  <dc:title>Conclusões  Grupo 4</dc:title>
</cp:coreProperties>
</file>